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773-14FE-4628-9A55-2E62314D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ACD-2FED-4F30-AE3E-EC73DE72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698-ED3B-45AD-86BC-B4EF8783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8EB-14CC-4830-A6FD-CCC0B15B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F1B-A187-4301-9CB3-4156A0A9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81E-F9D4-4A64-B9F9-AA376F38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E43-CB04-48A7-A8D1-9E671A55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AE6-61BA-4FE0-A9FF-FB451B17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043-7C86-421C-82E5-37936792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11D-BA81-4630-9E30-5234C903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F64-6114-4181-A3DA-D75F1D3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13F-9C90-4D7C-A385-75463D7D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02B6-38EE-448F-862F-9F7607108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5:43Z</dcterms:modified>
  <cp:revision>41</cp:revision>
  <dc:subject/>
  <dc:title>スライド 1</dc:title>
</cp:coreProperties>
</file>