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BDD-70E3-4F0F-9251-6FA85571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EB8-D81D-4AB4-AC02-451E8FA9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1B5-1208-4C4D-9192-A73689A6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A15-B4A6-47A0-AA6A-68991448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CA4-A316-4309-8EE7-46AFC688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CFA-5426-4C3B-BB1E-55B0A04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53D-F8DD-4C3D-87FE-30753F0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B9-E782-4811-91B7-7D3C9184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CA6-C3D5-4DC0-BF42-9D02CE9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9CB-09C4-4C33-9B7C-D417FFE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668-AD21-4B06-8390-92ADDCC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FF2-2F90-4877-A217-14D17F1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7C0-B33A-4C23-8E8F-7396EEFF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6:41Z</dcterms:modified>
  <cp:revision>41</cp:revision>
  <dc:subject/>
  <dc:title>スライド 1</dc:title>
</cp:coreProperties>
</file>